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6FB-BB31-4462-9C04-DD1E2B18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025-982D-40D1-BC02-FE470E7C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C4B33E-A430-468B-8DD7-86349A04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40DA2A-6C75-47B2-B092-836DF9C7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654AE-2804-4B0F-A48A-580677D4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5911E-5EAE-495E-B9B7-4F6E875A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9704B-2B1F-441F-8693-3A2085DA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1AA4F7-87BE-4EB6-A2FD-921DD506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CED8B-BB0C-4F20-9181-00FE9C6B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A2B8D-C2EB-4ABC-B3E9-0D1E1336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D05016-7C02-41F3-BBA6-AE11A61F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C5108-C9CF-47D9-A8FE-7C304CD6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AC4-01B2-4B0D-BA4E-DD0287D9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545A3-60E6-43D0-B6EA-60BC3B7E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716C9-174E-4DFB-B526-BC471263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47AF2-6168-48B4-AE63-06737DB2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CBD03-4DF4-4198-B8F1-0B5B3646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2E8AB-D537-4F47-8AB9-0C8E8CC6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83F92-5DAD-4820-8F00-33EB346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27C52-EB1B-43EC-B83D-7AFD017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CD618-20D2-4FB5-A634-BE4D6AE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3C5D1-603F-472C-8F38-3DB88BCB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6E3D3-12C6-4A6B-87BF-F60B78F6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E39-2BC1-4857-8EF5-B2E5E731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05361-B13E-47CB-82C5-954B3A1D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3F5C-AE7F-429D-ACB1-708AE4A5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1B5C-03A9-400D-A12D-F9BE2E11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BDA-71F0-49A7-91B3-90DA49A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163F-51A3-43E7-B3E7-17267D30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DECC-CA56-49DE-8FE3-AE539B02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6A78-83B4-4DE4-B5BA-591C108F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9F3E-C53C-4441-9703-1B4333F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DCF-1B93-4FE4-95FC-B925F07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5CC7-EB21-49EC-99D5-78B9B1DD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53D9-7FED-4776-816A-5B8F8D70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FE04-B11F-4A31-9377-DDC7615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56B4-CD2B-49F4-9719-0EBD3B54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C715-1EEE-4304-92DE-C88C9FE1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59A4-0E97-4122-A032-99518134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7AD05-3D5C-4EFA-A42F-068ACAA7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E210-4E7E-489B-AE95-594BB30A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79B9-EFFF-449B-AFAA-298665A2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5F2B-1B1A-47D8-B740-1B57C7E9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09F-0EB6-4983-B41D-99711E8B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4519-A34B-490A-9F2E-1FB237E7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9828-EB37-411F-B265-9C6BE170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2E41-E02C-43F1-B848-313EEECC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16B1-9388-4F54-A316-4F470C49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C133-7B98-4E26-836E-8C084EFF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7F0B-BD16-4467-8865-6322F94E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206A-3544-4CA7-8EB2-889EA9FF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062C9-F890-44CA-B9BC-3AF30737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93871-E7AF-45BF-AD7D-7DB6E730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1E8BE-0618-4F48-AA3E-8C2F70C8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98F-5500-4522-92B0-3C7FEB6B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9AA87-37BB-4423-8626-4AC031B5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C6584-74D7-4432-9DCE-6EFFDD3A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2F2AA-8B17-4F40-BDB3-6E7C044F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77169-8227-40CB-9890-2EE51A2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093DE-B408-45F3-8407-DC3D457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66090-C28B-41EA-9268-02BC564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035D7-C07B-403E-AC34-C827568E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40BDD-FE5D-4845-95EE-2D590259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74982-BA4E-4B8D-A0F5-B26F1241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6F55D-C09B-4722-9A8C-F7165284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6D0-882F-4A65-BB7D-02BC0B82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C4B93-2795-48DB-917D-0E2C6201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E60B-F98C-44BE-A40F-210F8FC8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D43DB-9BE2-4C17-9018-ACAC0A11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025E-8618-4187-8394-D3404E93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EA84-BC11-4302-937B-E666ECA0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B3EC-455D-497A-BCE4-80505462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8B7FD-850C-4469-A53D-22A25EB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879F2-D2D4-4E24-8F03-E0D0EB2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36710-3C49-4AEF-B5CC-F70A9D37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A43C9-10BA-407A-A113-10081C93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3BF-4123-44E8-89CE-6B342216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87901-5612-41D4-86DA-478ADF51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70E9C-FE08-4F8E-82B7-82D94F86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0094C-0AE7-4481-B378-5EB44618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3BFC6-980F-474C-969E-06036D6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CB64-8840-4F5F-8A9E-F844871A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6F62C-1B66-4AE2-89DB-C5595DFA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2B00-1655-4774-8A4F-9069F4BA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D22BD-F687-417B-A14F-52F77EE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F883E-75DC-4AE0-BADA-12B193A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0D57-FAE1-4C69-BCEE-D5D6CB6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3F3-47AD-4858-8184-A707CE96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4AEB-CA21-427E-A55B-059536B2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E8282-FCB0-4ABE-8C72-862FB110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88AF8-B1E1-4C1A-B30D-ECE31C40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D87C-6335-4B4F-87D6-9E69B14A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5085E-D87E-4DAA-8E09-D8CFDC35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9A738-9C6B-4886-A31A-D9E19F62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EB6D-527F-40A9-9AB1-3EE9D2A7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DAF6E-D688-4E24-B15D-209927A1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EE89F-963B-4A62-B5F5-98455216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BA6E7-08D3-4897-A07A-277287F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9E6-ACDC-4893-A157-FBE7841A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AE118-ABBA-4690-BBCF-E2693482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DB1E1-C360-4555-BD54-4F45EFEE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37F0F-9507-4686-BCC6-53DD0F54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D3640-228E-4478-BC73-C1020A13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9D297-08EA-4340-A2E5-7619D6E1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7F969-835F-41CA-A64C-55CBF045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98E477-639A-4EF3-82F0-BDCCCB58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EB982D-E0E1-4653-821D-261FCF3D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8F382-C295-4E75-9015-046F4707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8EB5E9-AC32-46C8-881A-FA766390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FCA-8870-4047-8533-CCB890FB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9E8F0B-59BE-44D4-9C3E-41507C84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5B503-49B3-4FD0-AF6F-15825B52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E5C03-3C6A-422A-B6BC-C72EC3FC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A56AD7-DC17-4374-8CA9-199F2107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E56007-F708-48AC-871F-AF8D7BF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1414CC-A87A-4AED-932A-486EFFE3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770545-73B1-47C5-9024-ED5B6729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2330E-3167-4213-80F6-DB8D48ED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CE938D-DC4A-4501-9725-422A16FE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B4D74E-49D3-475E-962C-B63D1BC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BC19-A593-4D58-99D0-5D3AB1BB8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592B-A343-4065-AD87-1BCA3AFB89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DF86-7C07-4193-8A7F-EA7F2A984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55E-E340-41A2-9405-0EEBB170CD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D1D2-4B89-457E-B321-4D22DB0865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588C-554C-4D99-BC1D-21E5D3CF83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9381-1147-4D82-A968-3B8CC69CF3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5569-802A-4C1C-B7F9-67F6B8D73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DD9E-901B-4FBD-8788-40C64898F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302A-9512-4717-90C9-B4CA050973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5800" y="533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cc"/>
                </a:solidFill>
                <a:latin typeface="Times New Roman"/>
              </a:rPr>
              <a:t>ROPA  DE  LAS  ESTACI</a:t>
            </a:r>
            <a:r>
              <a:rPr b="0" lang="en-US" sz="4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Ó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76920" y="5334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imes New Roman"/>
              </a:rPr>
              <a:t>Por: Jeannette Pellegr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Primaver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52280" y="2057400"/>
            <a:ext cx="19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La muchacha es Beatriz. Beatriz lleva un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vestido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los zapatos.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El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vestido es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blanco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. Los zapatos son blancos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beiges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. Son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elegante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867280" y="220968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Ella es Bella. Bella lleva una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falda gris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, Una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blusa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 gris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azul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, Los zapatos son blanco,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marr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õn.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Son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formal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bonita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Ver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15000" y="2333520"/>
            <a:ext cx="3962520" cy="45244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295280" y="2895480"/>
            <a:ext cx="3353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la es Adelina. Adelina lleva los pantalones cortos. una blusa blanco,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aranj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mar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, y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ill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nita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inturón beige. La pulsera plateada. Y las gafas de sol mar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ón. Adelina es cóm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Oto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19440" cy="48769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5257800" y="228600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Ella es Elena. Elena lleva una blusa,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bloso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antalones cortos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 y la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ulsera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. La blusa  blanco. Los pantalones cortos, pulsera, y el bloso son beige. Los zapatos son beige y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negro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. Es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ómodo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y eleg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523880" y="457200"/>
            <a:ext cx="5943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 Invier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447920" y="2666880"/>
            <a:ext cx="39621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Muchacha es Lola. Lola lleva Lo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lue je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is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intu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las zapatas. Los blue jeans son azules, camisa blanco, cint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ón es blanco, y los zapatos son marrón. Son eleg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838080" y="609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s Pija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3048120" cy="44197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52388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Times New Roman"/>
              </a:rPr>
              <a:t>Las Pija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5905440" y="2809800"/>
            <a:ext cx="3238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El Gorr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6095880" y="8380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4"/>
          <a:stretch/>
        </p:blipFill>
        <p:spPr>
          <a:xfrm>
            <a:off x="4572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5"/>
          <a:stretch/>
        </p:blipFill>
        <p:spPr>
          <a:xfrm>
            <a:off x="6095880" y="4114800"/>
            <a:ext cx="2324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Accesori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3057480" cy="149544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6629400" y="38862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5"/>
          <a:stretch/>
        </p:blipFill>
        <p:spPr>
          <a:xfrm>
            <a:off x="6629400" y="7621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533520" y="2971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Gaffas de 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934320" y="2209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Gaff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4191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Ar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14400" y="6172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 Puls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866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Col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48:47Z</dcterms:created>
  <dc:creator>pellegrinijea</dc:creator>
  <dc:description/>
  <dc:language>en-US</dc:language>
  <cp:lastModifiedBy>pellegrinijea</cp:lastModifiedBy>
  <dcterms:modified xsi:type="dcterms:W3CDTF">2011-12-14T17:02:29Z</dcterms:modified>
  <cp:revision>12</cp:revision>
  <dc:subject/>
  <dc:title>Slide 1</dc:title>
</cp:coreProperties>
</file>